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6674-0991-4372-9D3F-08EE763B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2FDB-B607-41DD-AC47-32AF59B4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73D0-D44A-4231-8EF9-7CC50E62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A18E-5A57-42FA-8EA4-DBD6844F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2CDE-8947-4C27-8429-D71E2CD5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B037-0366-423D-B0D8-B2DE524C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439E-D3CF-4A73-8112-DEC35DF0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C2F8-1001-41DA-A806-AEE84AE6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3A62-314C-4215-8100-7D73FA56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775A-7E27-4A43-8DDF-39C1311B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0A4C-E0AA-436B-AE44-9EE02EE4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F719-2758-4906-9165-1DA6FBD5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C76A-A3FA-4767-8824-EA8194BF0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4.xml"/><Relationship Id="rId8" Type="http://schemas.openxmlformats.org/officeDocument/2006/relationships/slide" Target="slide55.xml"/><Relationship Id="rId9" Type="http://schemas.openxmlformats.org/officeDocument/2006/relationships/slide" Target="slide56.xml"/><Relationship Id="rId10" Type="http://schemas.openxmlformats.org/officeDocument/2006/relationships/slide" Target="slide57.xml"/><Relationship Id="rId11" Type="http://schemas.openxmlformats.org/officeDocument/2006/relationships/slide" Target="slide58.xml"/><Relationship Id="rId12" Type="http://schemas.openxmlformats.org/officeDocument/2006/relationships/slide" Target="slide59.xml"/><Relationship Id="rId13" Type="http://schemas.openxmlformats.org/officeDocument/2006/relationships/slide" Target="slide60.xml"/><Relationship Id="rId14" Type="http://schemas.openxmlformats.org/officeDocument/2006/relationships/slide" Target="slide61.xml"/><Relationship Id="rId15" Type="http://schemas.openxmlformats.org/officeDocument/2006/relationships/slide" Target="slide62.xml"/><Relationship Id="rId16" Type="http://schemas.openxmlformats.org/officeDocument/2006/relationships/slide" Target="slide63.xml"/><Relationship Id="rId17" Type="http://schemas.openxmlformats.org/officeDocument/2006/relationships/slide" Target="slide64.xml"/><Relationship Id="rId18" Type="http://schemas.openxmlformats.org/officeDocument/2006/relationships/slide" Target="slide65.xml"/><Relationship Id="rId19" Type="http://schemas.openxmlformats.org/officeDocument/2006/relationships/slide" Target="slide66.xml"/><Relationship Id="rId20" Type="http://schemas.openxmlformats.org/officeDocument/2006/relationships/slide" Target="slide67.xml"/><Relationship Id="rId21" Type="http://schemas.openxmlformats.org/officeDocument/2006/relationships/slide" Target="slide68.xml"/><Relationship Id="rId22" Type="http://schemas.openxmlformats.org/officeDocument/2006/relationships/slide" Target="slide69.xml"/><Relationship Id="rId23" Type="http://schemas.openxmlformats.org/officeDocument/2006/relationships/slide" Target="slide70.xml"/><Relationship Id="rId24" Type="http://schemas.openxmlformats.org/officeDocument/2006/relationships/slide" Target="slide71.xml"/><Relationship Id="rId25" Type="http://schemas.openxmlformats.org/officeDocument/2006/relationships/slide" Target="slide72.xml"/><Relationship Id="rId26" Type="http://schemas.openxmlformats.org/officeDocument/2006/relationships/slide" Target="slide73.xml"/><Relationship Id="rId27" Type="http://schemas.openxmlformats.org/officeDocument/2006/relationships/slide" Target="slide74.xml"/><Relationship Id="rId28" Type="http://schemas.openxmlformats.org/officeDocument/2006/relationships/slide" Target="slide75.xml"/><Relationship Id="rId29" Type="http://schemas.openxmlformats.org/officeDocument/2006/relationships/slide" Target="slide76.xml"/><Relationship Id="rId30" Type="http://schemas.openxmlformats.org/officeDocument/2006/relationships/slide" Target="slide77.xml"/><Relationship Id="rId31" Type="http://schemas.openxmlformats.org/officeDocument/2006/relationships/slide" Target="slide7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9.xml"/><Relationship Id="rId23" Type="http://schemas.openxmlformats.org/officeDocument/2006/relationships/slide" Target="slide30.xml"/><Relationship Id="rId24" Type="http://schemas.openxmlformats.org/officeDocument/2006/relationships/slide" Target="slide31.xml"/><Relationship Id="rId25" Type="http://schemas.openxmlformats.org/officeDocument/2006/relationships/slide" Target="slide32.xml"/><Relationship Id="rId26" Type="http://schemas.openxmlformats.org/officeDocument/2006/relationships/slide" Target="slide33.xml"/><Relationship Id="rId27" Type="http://schemas.openxmlformats.org/officeDocument/2006/relationships/slide" Target="slide35.xml"/><Relationship Id="rId28" Type="http://schemas.openxmlformats.org/officeDocument/2006/relationships/slide" Target="slide36.xml"/><Relationship Id="rId29" Type="http://schemas.openxmlformats.org/officeDocument/2006/relationships/slide" Target="slide37.xml"/><Relationship Id="rId30" Type="http://schemas.openxmlformats.org/officeDocument/2006/relationships/slide" Target="slide38.xml"/><Relationship Id="rId31" Type="http://schemas.openxmlformats.org/officeDocument/2006/relationships/slide" Target="slide39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371600" y="1143000"/>
            <a:ext cx="66294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 avantage  y a-t-i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apaiser la soi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un médicame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990720" y="1143000"/>
            <a:ext cx="73152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bien de temp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ut-on épargn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 on achète un médicame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apaise la soif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838080" y="990720"/>
            <a:ext cx="75438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le PP ferait-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le temps qu’i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gnerait s’il prenait u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édicament qui apaise la soif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914400" y="838080"/>
            <a:ext cx="754380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ronicament, que fait le pilot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le PP par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la personne qu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ut apaiser la soif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066680" y="914400"/>
            <a:ext cx="69343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se trouv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mu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219320" y="990720"/>
            <a:ext cx="716256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où revient le pilo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il voit le PP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 le mu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quoi e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mu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1143000" y="914400"/>
            <a:ext cx="69343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cherche le pilo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il voit avec qu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le le PP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066680" y="83808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 jour spéci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-ce quand le PP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 sur le mu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le pilote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étoi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vent ……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soi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838080" y="914400"/>
            <a:ext cx="746784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le pilot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étoiles auraie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500 millions de……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990720" y="990720"/>
            <a:ext cx="739116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le PP, 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Étoiles  auraie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500 millions de 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914400" y="762120"/>
            <a:ext cx="723888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p do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tourner pq sa fleu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 …. Et …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1447920" y="1828800"/>
            <a:ext cx="601956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q le sable au lev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jour fait-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 souvenir du PP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143000" y="914400"/>
            <a:ext cx="70866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nt peut 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P voyage à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 planèt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143000" y="990720"/>
            <a:ext cx="708660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nt sa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ilote 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P est retourn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z lui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914400" y="106668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le pilo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-t-il oublié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914400" y="106668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ne comprendra p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grand mystè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990720" y="990720"/>
            <a:ext cx="74674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’est-ce que c’e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grand mystè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371600" y="1143000"/>
            <a:ext cx="70102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c précieu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et peut-être cachée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m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762120" y="762120"/>
            <a:ext cx="769608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cheveux qui tomb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 le front du P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990720" y="990720"/>
            <a:ext cx="74674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c sur le to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montr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direction du v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1143000" y="1295280"/>
            <a:ext cx="739152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e fo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abeil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6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1143000" y="838080"/>
            <a:ext cx="71629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extérior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une personn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corp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990720" y="1066680"/>
            <a:ext cx="739116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pliquer la pres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les d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371600" y="1143000"/>
            <a:ext cx="69343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ire mon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le seau avec l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lie et la corde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914400" y="914400"/>
            <a:ext cx="75438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ois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ce que fait l’aiguilleu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les trains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1905120" y="2895480"/>
            <a:ext cx="5257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éprimand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1066680" y="1676520"/>
            <a:ext cx="73915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tre dan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ban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souveni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21" name="TADA.WAV" descr=""/>
          <p:cNvPicPr/>
          <p:nvPr/>
        </p:nvPicPr>
        <p:blipFill>
          <a:blip r:embed="rId6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61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182880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ui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752480" y="1828800"/>
            <a:ext cx="64008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couleu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Cita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tra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cabulai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3049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Qu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uit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uleur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itation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rain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ocabulai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4"/>
          <p:cNvSpPr/>
          <p:nvPr/>
        </p:nvSpPr>
        <p:spPr>
          <a:xfrm>
            <a:off x="77760" y="5794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6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9"/>
          <p:cNvSpPr/>
          <p:nvPr/>
        </p:nvSpPr>
        <p:spPr>
          <a:xfrm>
            <a:off x="160200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0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4"/>
          <p:cNvSpPr/>
          <p:nvPr/>
        </p:nvSpPr>
        <p:spPr>
          <a:xfrm>
            <a:off x="312588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5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6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7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8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9"/>
          <p:cNvSpPr/>
          <p:nvPr/>
        </p:nvSpPr>
        <p:spPr>
          <a:xfrm>
            <a:off x="46497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61833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6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7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8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9"/>
          <p:cNvSpPr/>
          <p:nvPr/>
        </p:nvSpPr>
        <p:spPr>
          <a:xfrm>
            <a:off x="770724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0">
            <a:hlinkClick r:id="rId32" action="ppaction://hlinksldjump"/>
          </p:cNvPr>
          <p:cNvSpPr/>
          <p:nvPr/>
        </p:nvSpPr>
        <p:spPr>
          <a:xfrm>
            <a:off x="8763120" y="6477120"/>
            <a:ext cx="228600" cy="152280"/>
          </a:xfrm>
          <a:custGeom>
            <a:avLst/>
            <a:gdLst>
              <a:gd name="textAreaLeft" fmla="*/ 70560 w 228600"/>
              <a:gd name="textAreaRight" fmla="*/ 158040 w 22860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 morsu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voie le P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sa planè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762120" y="914400"/>
            <a:ext cx="76197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 Sa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Économis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temp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fi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6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689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143000" y="1143000"/>
            <a:ext cx="66294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s cultiv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500 roses da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même jard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 trie 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yageurs 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quet de mi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1295280" y="1066680"/>
            <a:ext cx="69343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 ébauc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 arbres ressembl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des cho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2514600" y="2057400"/>
            <a:ext cx="4419720" cy="29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uit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semble à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.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1447920" y="990720"/>
            <a:ext cx="655308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heure qu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s ont trouv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ui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pui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harie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 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762120" y="914400"/>
            <a:ext cx="769608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trois parti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puits nécessai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déguster de l’ea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son que fa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oul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synony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très rou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066680" y="1143000"/>
            <a:ext cx="71629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ouleu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serp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ouleu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désert au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ver du j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990720" y="914400"/>
            <a:ext cx="723888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ouleur du vis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PP quand le pilo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ui interroge sur ses proje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1066680" y="762120"/>
            <a:ext cx="716292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ouleur du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isage du PP aprè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 conversati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le serp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685800" y="1143000"/>
            <a:ext cx="78487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us ne notons p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fleurs pq les fleu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t éphemè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1143000" y="1066680"/>
            <a:ext cx="69343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 puis t’empor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us loin qu’un navi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1143000" y="914400"/>
            <a:ext cx="71629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 faut bien que j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pporte 2 ou 3 chenil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 je veux connaît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papill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066680" y="838080"/>
            <a:ext cx="70866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ne voit bie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’avec le coeur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essentiel e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visibl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990720" y="990720"/>
            <a:ext cx="739116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 est bien plus diffici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se juger soi-mê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de juger autrui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expédi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train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erb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fo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passager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fo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enfant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cherch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hom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dan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quel obje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enfa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dent-ils le temp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2"/>
          <p:cNvSpPr txBox="1"/>
          <p:nvPr/>
        </p:nvSpPr>
        <p:spPr>
          <a:xfrm>
            <a:off x="1905120" y="2286000"/>
            <a:ext cx="5257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le man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1447920" y="1143000"/>
            <a:ext cx="601956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’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nse fai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’aven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>
            <a:off x="1981080" y="2209680"/>
            <a:ext cx="5257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ns pouvo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ché, enterr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1828800" y="175248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son des trains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hab, c’est le s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une tempê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8" name="WordArt 3"/>
          <p:cNvSpPr txBox="1"/>
          <p:nvPr/>
        </p:nvSpPr>
        <p:spPr>
          <a:xfrm>
            <a:off x="1295280" y="4572000"/>
            <a:ext cx="64771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Les verbes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oif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e mu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ouvenir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a fin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om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erb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oes the é change to è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 the present tens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l” form of exécuter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hy or why not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320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on: Il exécut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e "c" is not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ollowed by a silent "e"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066680" y="1219320"/>
            <a:ext cx="73915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a un produ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apaise la soif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Administrator</cp:lastModifiedBy>
  <dcterms:modified xsi:type="dcterms:W3CDTF">2010-05-14T10:08:33Z</dcterms:modified>
  <cp:revision>57</cp:revision>
  <dc:subject/>
  <dc:title>No Slide Title</dc:title>
</cp:coreProperties>
</file>